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7E8-69B7-40B6-BCA0-201A3A7E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4FC-ED20-438F-8A50-55980F06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6BD3A-314A-48AD-B68B-393898E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4844-A065-4075-8057-1AE554DF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B85A8-82D6-47FD-96ED-57787297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6E0B3-34C4-4C73-BE8F-5AAF406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80146-5E4D-4A3E-850C-FA745827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0FB60-54B0-4A3C-A292-0BDB0CC8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754C4-77F5-4DA9-B838-7C40BE3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1462B-58DD-4A4D-9CEE-91D3EBAD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BC4C4-1E0E-448D-844B-B80C6338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983D8-12A6-486F-9A8C-3D3271A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BA8-1FA9-496B-BC60-9BFF5BFA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5B175-46AB-4734-8F7B-1FD6E52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346A3-0F0E-4DA8-B0DF-CA8C6CA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45C02-C699-4815-AF77-6A6448FA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5CC5B-4809-4ECC-B059-52EFC327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E2805-26E9-4B3A-95E2-8F8A2442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50F81-C82F-49C5-9BB9-90E36E8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69969-AEAD-484F-9757-BB3AACB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A8FE0-9C6E-4350-A465-8470A7A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BC6A1-04FD-4F68-957D-792D8BF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CA221-F17C-459C-A9E2-14A7B2F5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234-A328-4107-855D-A164C1C3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6826-6351-4BBE-B223-55D18B46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47DD63-AB9E-4C24-A4F6-91E9A6D3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22420D-92E2-4BE9-8363-D9BE9DAD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31306F-8166-46D3-8B65-F3067EA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B7A7E3-761E-46DD-92BE-9E90438A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5C8F4-D48D-4CBE-B3E8-524B6E50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1DEB42-9A9C-42DC-A933-74827983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18FE4E-EEFF-49F4-A0C3-E8B85BF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818837-4CAF-4781-B24B-66ED232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E825F0-42CF-4C91-B974-F2BAD25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2362-59D5-470E-81AA-A14DF520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9A3DEE-E639-4FDB-B9FE-66D8C08D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0C05D4-CE6F-48A5-BB36-0C1D827D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0EE421-D1FA-4F61-A916-2BDFD039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FCE89-0510-41F0-A5DD-E97B1A1F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0B5CE-94D0-400B-A52C-437C497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79A0B-DE6E-423C-8D17-7013F36F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E7D31-EB29-49FF-93A9-878E9967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78130-CB7C-466F-A780-0BCD7179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98FF9-106D-417E-BF3A-1AE96970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08108-5FE2-414B-ABBC-30B7E89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A746-6503-4D91-9129-563DFE9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425AB-D758-49C9-B658-F914E05F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7C277-E24A-400E-BA63-6077941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957D7-A3A3-488D-B18D-78C1A881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B3A8E-14B4-48A0-A641-26C70B79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9520D-9D94-4CCE-A258-3A1006A7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564F4-AEE7-409A-9A62-6D7CC036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075A6-08D1-4D53-9C7D-186A827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2CBAC-C85D-4A5C-A686-542258D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7F926-1645-4D09-8EFD-5F10632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C92F0-16B3-4E1E-AE70-B42D4E7F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306-09E4-4936-8ACE-AF29A35E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C40EE-B518-46EF-863A-5E72B90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EDF1F-D041-40C9-8283-290633D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C75B0-8682-4131-98B4-4286214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A3DFE-47B9-4AB6-A3D1-E28DE2E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CF6DD-141F-43FF-804A-7AE03F4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DF5EE-DB5F-4113-99E3-E9181B3F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C2585-3A72-4D71-B065-DDF1BE34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169B1C-EA59-48F7-8282-DD24A711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4CB5C8-1FAD-4CB6-A591-7E76A6F5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42C771-3D35-41E1-A9C2-EF04F595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8C38-72A5-4168-BCAE-49B78901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3892FD-FEE5-4E7A-824D-17A1C1D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C70EE4-EA50-479C-B2D4-F43AE69F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DF73BA-CC0B-4F28-BB41-3013110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172D45-FD19-4944-8595-547AC29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E25817-4809-42F7-BC22-CFB2FAB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78482A-FE63-459B-8489-659F503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C6C0F6-25E4-459B-9E54-0D8DA702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2526C7-4260-4790-9856-8E68E98A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5AB2B1-8110-4DC5-A686-80AD7A4B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46835-5983-4A9F-A6F9-53D14C4F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B3B7-FA78-441A-9B63-253ADBC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BA20C-FCCD-4219-9C4E-ED08F1E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2505E-B19B-4890-96AA-6C5DA4B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3F620-C3EA-402C-8F74-5F2DF4A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0597D-46AC-4A05-88C4-F838514A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88816-F460-408D-9E5E-EF1E313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A3468-C36F-4921-AEA5-8629FAF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F3ED6-6312-47DF-B571-38D9851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31506-68B0-4B8F-B310-F095DDF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F04E2-F2A6-49EA-A9CF-182CDD5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2C429-4901-45A5-9394-8F7C8E59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6787-343A-4A29-8BCB-F481C8E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BBBE2-7510-4754-BAE5-4EAFE79F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C1F3A-2BA5-4E8C-ACC8-37B204D3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6703D-C02A-4C9D-8012-9B11B812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8098F-7077-46E5-8437-618AD8EE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E96FC-CA48-4C60-91F0-6C6322E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EE316-55BF-41B1-8D56-8B4418BC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F48EA-008D-41B6-B387-CA85A97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7FE3B-7B10-4ECD-A500-CFA205EC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C3D85-66D5-451B-B942-6013A22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9780C-DB5B-4097-989C-CCE2FD6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9003-4907-4986-A440-AB12EB4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22C2D-AEAD-4C56-A890-5FB689D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9ED12-C1B7-4E54-8CA5-348C6AB6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2C822-A979-4B4F-95AC-263DBA47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7A950-8FF0-4DE8-B73B-28927E0F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46581-5A9A-4C7A-82DD-4A9808D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A4122-2C12-4769-AB34-BEB8BC3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B7CE1-C178-49AE-A69D-5CFA5E3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C1E31-8CA8-42CE-913B-C80C5916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6D660-A752-40EB-B50B-345C58B5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9CC92-84C5-4313-BF06-FB70E45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79B-2241-4217-8F89-08FFF88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F3EB-9B84-4CAE-8D24-42E997C6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B60DB-F75C-402C-B41D-F120AD6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3BCE4-1B38-4E3E-AF56-EF42416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F50C3-D8F0-487D-92AE-14EE1166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9325A-DE94-4C03-8D17-07181E19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47589-312E-42CB-A621-3AB1AADF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073C4-0CB7-445A-B2C4-256D20D5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F0896-1AFF-42DB-A754-800319D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80F90-F990-4011-B5E5-2E90B796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AA12A-E8FE-4244-B187-0BDD6FC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E49D9-141D-4628-B7C0-B18AD51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231-145A-48E0-8BDD-B7E570A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7E2C9-B1FE-4A55-A59C-44A11F83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7D2E0-46C8-48BB-ACAF-FF4EEB17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89A3B-5AEA-4202-B541-598D0DF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6DD41-C021-4374-A095-E6AC5B4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F7591-96D0-478A-9CA7-3C57F1BD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D0401-8131-45B8-B7B3-6CE13085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3C02E-DCB3-4546-A61E-EE5A62BE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96B29-EA57-4361-AB0F-293B26B5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0360C-F858-40B0-B684-D6B7C3DA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BC950-4342-4EC0-824F-838E3DD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55B5-7983-4E6A-AA0F-57022A7F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F14AA-9199-4459-B3B6-9E6DC111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A35E8-EB3B-434F-8AA5-9E6C99BC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D6A42-FE6F-4423-A3B7-3517A31C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A9452-210A-4297-A703-E492DE2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0068F-7650-43FE-BDD1-E8BCC52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D9DF3-D3E3-404B-B239-B48581B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75B318-DD44-4CEF-93DE-4AF214AE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BEB2B-8526-456A-9DDE-3DF8FD40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509B8-1F01-4404-BABA-E05CE99F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25A7C-BC83-467F-9209-97FFD973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007-9A8B-42C0-9605-DE631B6F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4DD45-06EA-4F51-8C09-7F5379B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9BEBD-B0A3-4592-9BB6-CB1A6490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C6D23-C8A8-45F1-B792-AFF2C111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5C778-A4D5-4A9D-90A9-2E15E5F5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90071-0C40-4EC9-A651-6957A6C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23BB7-4F72-40B6-8B77-8C508AD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78497-C877-426F-9CCF-7DCC7FA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DD18D-CFED-4A25-BCDB-893CAE9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12497-91B1-4B6A-9C80-AA0A11C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4AAFE-06A7-45CB-9F0B-41E5E873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F98C-C98D-402A-B387-0AB14C29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8C357-91A2-4C58-958E-0465B079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199A3-CFDC-40EA-A663-426A87DD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2709B-B781-4865-93C7-6DDCDA7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36D95-119F-448C-8E8A-2643EC3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45803-F19F-4C70-803C-E445B4A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FE0D1-5079-44B4-B916-E4FBE57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FFCD2-E8E0-446D-B15D-B1A046D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C70EB-FC4C-4115-B893-FF70497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C796F3-4B69-4ED4-A650-244615F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9B390-49C1-42FD-BE3F-02BCADD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0732-0A40-416A-848F-B24E0E19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E33D3-EA71-4EE5-A568-7500872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EA25A-4B58-4AC0-B755-DC884EE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18F5B-4CBD-4FCA-B595-5D44F92D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1680A4-2418-4D0C-91F0-DFF3388D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F17D0E-496E-4856-A07F-64E8F61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8A19EF-B74E-4AD1-8656-F592F781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810E4E-EF55-4C8D-BFD5-22A468DD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3EFC71-BF69-43ED-A253-3BE11B4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BFCA9B-BC24-42A8-A32C-6318816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5B0C26-507D-4F45-8FC3-C680DCA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B3DD-6A12-4FA8-BE63-401D9849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DB5F58-6179-463D-B1B9-9951EF6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8090D02-DFCE-4105-BBE4-7F79DFB7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4B786C-125B-4E26-846D-9D5D500E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6F6CC7-3894-4B56-8136-C6FBFD68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AB1BF6-89BA-4975-AF3E-F7EC2D57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CC9026-CF33-4CD4-80B3-FFA9206C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FE268D-EF40-485A-9060-F146A687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243EE8-A832-4496-B485-FE648BD4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8B7E22-8E2D-42FB-8DD2-07700CE2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6E937FD-FEB4-4FA6-8266-64771DC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1E4D-B924-4C3E-8233-32FE395D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4ADF40-A5F9-4BB0-B075-15C7545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C51E92-DAFD-4AF1-A270-9363AEB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4DA3C7-CD22-47A0-B3C6-60AA0C1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02564B-3702-44B8-9EF2-37DE8640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7CD7D26-A3DE-4EF6-AA49-F2133D9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A2DB99-B87F-4D08-AA81-6CC60717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F17EDA-86A3-4F7C-9ACC-C57EAA52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F78968-A7A8-4273-86CE-76318227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6C359C-C025-4255-BC25-C0FD7D0B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C053B-6C8F-44E9-8E71-F08F357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7F5F-B86F-486F-AA63-D09CDD7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8FAD7F-1000-4A85-B196-6805074F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9E9F42-82F9-45A8-B2DA-047FB5B1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D8FBF5-4167-4370-A955-9613B6B9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CC691-BE15-4299-B819-E6C9D90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EB8F87-8CFA-4647-B8ED-AD65969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F0752-491B-433E-902E-BFCE7F3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91D96D-5F39-494C-8B3C-514320A4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65DE4B-46AB-41AC-B56D-4916E7E6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2CD29-AE79-418A-90D4-CFA86586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BB771B-C557-4CA2-A223-57FD495F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788E-296A-4912-BABF-420E15D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9EF545-493A-43B9-B187-EA37BDC0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2625E73-5D7D-48A5-B683-F6D1BE15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E3B93F-C686-4DE0-9A49-BFBA55C8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1C94E7D-D5B5-4A96-98F8-2AF8DAEE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A0E3501-4FC2-4F98-99EC-1497967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F45362-9813-4C65-A37A-F16B446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CC5587C-DE10-44DD-818E-5F66B2F1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5B423B-908F-4298-85EF-9B4A455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7CF285-23CB-485C-9E04-22CEB907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F833CF4-42D6-4F5F-A1AF-B5531205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622-B7AB-4D53-B0D2-151D8249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FF1C-D894-4A90-91E1-E3E56E0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EB6A214-8A64-40E5-B939-F136C3F8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33945B-90E2-4C46-8756-8EF8136B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6B11A4-2F5A-4D42-ACCE-34FC8F6A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858940-1377-4213-9748-47F25FDB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8322F3-1DFE-4C76-B0D7-CE3C839D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1C726E-6FFD-4965-805E-3C8055C0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833A5C-0FBA-4AEF-80A5-CC2BA3DE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6AB9DE-FD0A-4FAD-8F8A-7ED1984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D3337C-CBC1-413D-A760-CB1C928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7DD491-E0CF-4CD4-820B-8962E3D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AF43-6D70-4E74-9DF7-B911825C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C959FE-1663-4E2B-8BD0-ACF325D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9374FE-EE44-4114-8CBA-1DEF93E2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73570D-C7CF-46DB-B107-3DE23BB3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0132FC-A7AD-4BFC-9DAC-59455031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49AC78-3EFE-488B-BCDE-ABD3479D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111654-144C-47F3-8418-4F23332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686B85-690D-44EE-BAF7-8F407E0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45DB2F-4312-4B92-9FE9-EF0F758A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002EDF-8305-4A94-A5BC-EEF0FEC5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74791A-43B0-4A1B-9E17-BABD5B2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F081-EA8F-4F3D-9CCC-F238BA1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32C8FF-E311-4071-95B6-1BCBB05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DAB829-CB38-424E-8693-B069F97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692399-92FE-49FB-9E9D-5158097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F5AC66-F21E-4E61-9DF6-E11D4497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31314E-8A06-4FF7-8EBE-53F5C157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D661EB-DD0E-4D3F-8432-E072AC67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AB7394-3547-489B-B74B-5B8DA38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8071F0-F0C6-4D61-A107-1E11B852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D01667-397D-4D55-A34B-625379BB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AB2D53-436B-4233-A251-CFC35D5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DA0D-BFB8-432B-AF9E-63E4EC5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938B9-12B5-4D82-BE86-F8EBA716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ED4772-227F-4FFF-8B58-A2C8DD3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982AE5-52BA-4BE9-8B93-DD617DD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5DC7C0-FAA5-478B-AB85-7EAF3BE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DE5FCE-5006-4A94-8D68-C926A32C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A59D02-FD78-49F6-938D-C153300A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195D48-692F-4259-AC5A-9250CA51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6A40FD-18FE-491F-A8AE-449F9BCE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F1ADB4-007E-4C60-88F1-34DA8AA8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DE958F-C0A2-4DD3-B294-757A09A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9698-B8C2-4421-9BEB-1B7BBAC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970CE7-E9D0-48C2-BADB-32F5DA36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33D62D-3072-48F4-A07E-77D6D7A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496D59-257E-4C34-B6BC-BEEA31C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6AACF3-6811-4EC1-BE71-1E3BA61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C7FE0E-20C2-4034-B4A8-C268E4C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2F215F-03FD-4F3F-A951-F1ED678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2BDB9D-4C87-4A6B-AC21-C3C8EB3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AA7495-D2D6-4832-A770-065977E0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FB9591-0F8D-4F50-A34A-D0AB8B6E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7C730E-DF47-4C5A-8121-0D5D1F8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32DB-F1E0-46B5-B772-F8665358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252249-8041-45ED-94D6-D4FA5DD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D9B9AB-6B1D-4F22-9872-7401ECE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58AECB-E596-49F1-90E9-ECAB90C4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2D22BD-3D49-4ECF-BD35-CCBB154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3F3671-77A9-4418-954B-990B5E5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0D92D-1F56-4079-9582-D31E716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90F199-4542-410B-AF9B-AA4FE76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11BE16-F22F-4D21-BEB0-14611CF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359898-2598-4A00-AC13-DE00D3D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FC2985-E870-4790-9567-08791EF1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36A8-2B4F-4785-B8F7-35B98D5B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FC5794-02B3-42AC-A272-779C5C20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950796-B89B-4BEF-9462-F2022FBE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458008-44D8-42E7-8F62-BE23E0C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398ADB-34F8-4A7B-B7F5-1BEAAA4D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D970CB-D0FA-489C-9675-BBA8B4E1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4FA9E3-94CC-4095-80C4-86BBAEC1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A7AF1E-5220-4987-9D8F-DFC72CFB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1B0C21-623D-4718-8EEA-BBE61FAC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102806-C575-4A28-804D-7D2480F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E52251-5B6B-41AD-A823-92AF70E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A756-F584-409B-AF02-B8386EA5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27EFD4-9401-4E6F-8795-958CE7AA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FA7830-29B5-43B9-A7D9-082011A1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0CD75F-21E0-4424-9F2B-9273E5FD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AD0113-3AE2-4B02-A3A5-FBA1BD4B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92270B-970D-4DA9-ADD5-A731F70E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44B4A9-C246-4F17-8D06-8D7A786A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1C9280-3DE6-4DC8-8A80-7DA4F86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1A8A2B-D235-4D82-B799-9F8AB8C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5A9543-62AB-4D16-A0B0-6E8C9CCC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2A3289-2B68-4EBF-A53A-5308AAE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154B-E0D1-4E0E-B69F-6FE1BFF8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B49A88-0B1A-4959-9D31-58B8DD1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58B014-C388-4E80-A74C-33111BB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4C8EF7-FE74-4AFE-90D7-9C3D18DB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4109C6-D913-4086-8A4D-7650352F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1357EB-D06C-4158-80A4-D03FBA38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CF2E685-321C-44E4-881E-E3275339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BCF39E-3667-4B80-94C5-51CC5F70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9A576C0-586B-43A8-8AB4-811E7749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A5025A8-B962-4E48-82CF-95D8BEF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F84661C-6DB7-4297-9BEB-D1EEB3E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179F-7E3E-4E44-8D8C-4FDDE6E9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515E15C-0DAB-4DB4-89C4-9CB2A255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E940D5A-A570-43B8-A8A2-6B33A0C7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65B1F83-480E-4B03-8AF3-BFBB5BC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D6976C9-D986-4A9E-AB90-94986C3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9642FCE-C6B0-4852-BE6A-1B4F686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AB38BCC-EA30-4594-A9FC-74D06827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F4639FC-23DE-474D-A2CC-76DDAA02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7E25E43-1A67-47B1-9A11-53411394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58C42A-A2BE-4414-8AB1-25CC799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883614E-45D2-428C-918F-6C496D2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8E6-EDDF-4437-8785-F26FA4A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8189-C894-4A2F-9E11-822617A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4F2E7FA-6A25-43B0-A4EA-BF69CC01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CB5C2D2-48C0-45CD-87DD-4585FB0D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8F7F55-4E85-4870-A78B-72C62BE0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7229E2-CC6B-4DC4-9860-343A6D5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3ACA7BD-1231-42E2-B070-022E3AA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6125462-8E83-49DD-82D0-6957D2D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567D77-4840-44FA-A982-3C58CF9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10A44D-F941-4D86-BA9D-9DF62480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BBCED3D-99C9-4774-893E-428F8BCB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7F1013-6DE5-4EBC-9C4B-003E6BA3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A747-3DB1-409E-BF80-04BC5E81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99A664-E763-417D-AFED-E447B11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90CAC2-F3B6-48C6-A317-E6D5047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DEDB6B-7719-44F9-A613-1CFEA28E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EAB9F8-DDAD-421B-BFCD-00CD5B7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7708A3-EFB8-4D19-AEAB-5296424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113C19-BCEA-438D-B5B5-BDECF71C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A7CC45-5CDA-47A8-85C4-14C88B5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B496E8-0AF7-4135-9D90-98DAFD81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4B71EE-9328-41BF-8D44-053930E6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C69B60-D79F-4B82-9640-320B18C4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BD97-CD95-4F88-BEFD-D39E97D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FBE375-A0A0-478F-81BD-C55244E9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E632E14-6A70-4BA2-996E-63FC1B24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27D8954-562C-4534-BD16-8FDB6032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42E907C-A453-4081-9272-E9E2FA3C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2C77E02-1719-45AB-9C96-4F6F47F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8EAC40F-F002-4D9A-A764-D67D62CB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BBC4898-E2FD-4E23-B590-A9B8656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535A82D-5FF7-4B06-88F2-E324C8A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18C1D5D-0340-4E16-AD7E-F3D1BEBD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E7BB8B6-1901-40F8-8AC8-C641523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EF6C-8A29-4B60-AEF9-7607F53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3D47375-CE01-477E-9DB3-099D68B6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E057C21-0002-4AF2-91C2-B6B7E33B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688424D-AD23-4849-B0A4-D094307C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E7C2-0D31-47DF-BB08-323585E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A08D-FA24-4EA5-A8CD-05F1E9D8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E557-C381-478C-A7AD-61CAFE28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6D4B-93F5-4D33-99DB-B09CCC24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F8C1-F6DD-4C7C-9307-AB95FAEE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61E7-3E60-400B-8766-D41EC2F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232-D258-4ACC-B54F-4291A0B3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71EC-7619-4A32-93D3-7C01927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041E-E8B0-4920-97BE-3400D875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5054-7BBA-48D2-BEB2-6A13CDA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E0EA-E840-41F0-866A-1E508B8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EC36-807F-4149-ADE4-63360A7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FD36-35D6-4E12-9443-AFB6974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8798-1D14-455A-A5F1-3ED0B7D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63DAB-1179-41B7-B897-CE750B8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5FA8-3D8D-46A8-8565-8E9A9239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7D61-EAFC-49B2-A93A-4563292E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CBD-6C4C-496F-9254-A239F1E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0163B-36B1-4EC1-9E34-4BA5A81F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0915-0FEB-4967-9F87-10818433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3B329-8701-4EF8-B46B-D2530D81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E09BD-7AB6-4041-9311-CF7FB18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5E79-3DC1-40C0-98B7-10E7B10E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9366-1F82-4560-99B9-7571A06B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D99B5-723E-4E41-A1A7-FB053DB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8198-311A-4B17-8ECA-DF709D2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5818-FF80-4EF5-BD64-D5C1A06B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9575-75E2-4A4F-9A92-860639E6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719-5497-40EB-8C09-6E261934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DB30-5217-46C5-83A2-3AD9358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FD91-5DCF-4157-A37C-37DF403D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84D4F-A1F8-44F8-8EC2-97701B36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27321-619F-48C8-A23E-13C65DF0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98C9-B6DD-463E-B47B-8718B31D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875FD-A475-4B54-B128-22373959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8C2E-4016-4634-82C3-91BD223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CDD9-E545-4EFB-8B4E-A3D630BF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34F3-F748-4273-B331-D8CCB20B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896E9-49F0-4035-BCE8-469E07D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D70-DD36-4D00-B25F-68E2D1B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66470-277D-46D5-BE45-AB37AEF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2AD6-867F-4684-9B61-B0AF6564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CEE86-1E8A-48A6-8C22-6CFF2E9B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3ABC-462F-4286-B0C0-F78BEF36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E266-ABE6-424C-AD22-E1ABA1FA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CF814-49B5-4851-9255-3EBFA548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3005C-F4F5-481C-9D8B-F7A0170F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D2F7-0997-4792-82B3-7CD8104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C8F4D-5F07-4EF0-ACA5-C8900E0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27EB6-32AC-4F75-8817-78D718D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06D-638C-43F2-9467-EA0DA89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72A1-DC74-4FEB-81C4-F5A4B27E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C017-4B39-4BF8-B85B-9F6AA85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B4D9-A229-483B-8782-281BC6A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0DB3F-5E05-489E-B885-A5F5E34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D48CA-8D14-4CE0-948E-BB1F5EE0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1DB8-496B-4B9F-A423-C223438F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033C7-058B-4844-96D4-A1010D29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C74A0-9EE5-4308-94E2-4F74F182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F9D1-6730-405E-B83B-FA290E2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09097-E582-4C13-9A31-1314D67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634-8FB0-4237-8869-8C41D2842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4890-E1A7-4E5E-B3C0-E9297C8086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393-2587-4836-9254-AD6B4D98C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D8D-A7EB-4C69-9D37-7EAD77AB1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2AF9-A8EA-4824-B9B0-E9194A559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F325-43E1-4C9B-8788-472913205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289-B7FE-4B40-A0BB-CAB629BC9C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8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145-2827-4E84-BB3E-7C4654AA8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4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A61D-F46A-419B-BD82-7599DEC16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7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5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E28D-9EE9-4E53-B0E7-7BFF8DD36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1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8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9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5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6001-24AA-4A1B-9AB0-41417B258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9469-EF17-4CC0-A8AF-3539117F8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C58A-E3EF-4055-899B-B33A77D95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80A7-1374-4DA3-B70A-099EA09645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0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6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BC06-9C42-4609-9D53-432B3DC39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dt" idx="6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6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5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7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Num" idx="6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3AF1-7866-42F0-B6ED-BF321559E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dt" idx="6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6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AC75-EEC8-4D38-9C6F-643C9DC41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7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9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0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Num" idx="7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8602-48ED-4A50-82A9-2ACBEBB4B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dt" idx="7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7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3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7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9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9612-02F0-4473-A8B5-126A7C559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7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57E1-1BA1-4017-AB93-3C85ED1B4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4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5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6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7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8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9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0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1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2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ftr" idx="8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dt" idx="8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8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8279-E15A-45F1-B246-D00D1D09E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3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8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8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8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A823-C320-4904-A189-2D9B7AF3B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EA39-B59F-4F26-9E55-4C0924CE9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6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7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9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0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1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2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3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4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5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8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8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9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2A9-A540-4F93-BACB-607A04255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9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9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9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43ED-2996-44A9-935D-80C315E82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8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9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1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2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dt" idx="9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ftr" idx="9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sldNum" idx="9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B16-63C7-47DC-AE9C-2D7D48434E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7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9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0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1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9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CF41-236F-428F-894F-E4CDE6255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dt" idx="9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ftr" idx="9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9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0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1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2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3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4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5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6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sldNum" idx="10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8FEC-9BA7-4440-A3B3-11FDEF3E9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dt" idx="10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ftr" idx="10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0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0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0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8BF5-A191-44CF-8AF7-F54A340FB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9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0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2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3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4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5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6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sldNum" idx="10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A4A-A389-4F18-9F43-73C87517F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dt" idx="10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ftr" idx="10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46FD-FE40-48C3-B2B3-00FD8CF4E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DF3-70F1-42DB-98D0-0CFBACF34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CA5E-0B83-422F-B4E6-AA06E199F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5FD0-EDC9-4BD9-8BA2-FAD66A9C1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72B-4C77-4215-9838-943DB164F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6041-4CE7-4F30-BC4D-F8E64668D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udyard_Kipling" TargetMode="External"/><Relationship Id="rId2" Type="http://schemas.openxmlformats.org/officeDocument/2006/relationships/hyperlink" Target="http://en.wikipedia.org/wiki/Rudyard_Kipling" TargetMode="External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Kony 2012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as the video successful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do you think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seph Kony is still alive and free in Afr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s rebel group is still active and still recruits children as soldi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erican citizens and most of the world has not pressured their governments to do anything about Ko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dia Cover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adian News Vid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orge Clooney vid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Is Kony 2012 a version of Activism or Slacktivism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lacktivism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the concept that social media users are confused into thinking their tweets, likes, or shares can make a differ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 Kony 2012 video an example of thi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is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day sho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N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BC Vid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visible Children Respo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de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ony 2012 Part Two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happened to Kony 2012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visible Children CEO spea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is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Not accurate fac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ack of cont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Gives a bad image of Ugand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estern hero activism (White Man Burden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Rudyard </a:t>
            </a: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Kipling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- 1899- Western world needs to civilize other cultur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hat is the next step to catch Kon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oo much money goes to foundation (2 out of 3 dollars goes to the found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inimal impact of social med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elebrities don’t do anyth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ideo supports military a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ai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rted a convers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wareness has been rai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ducated people about what had happened and is happe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bilized the worl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opping Joseph Kony is the objective, more pressure can’t hu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s to Consid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depth did the video hav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the video is inaccurate does it matter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 video (faults and all) still beneficial for the cause to stop Kony?/ Is it ok to lie or “stretch the truth” for the greater goo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uld you donate to Invisible Children to stop Kony or for future caus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fter class last week, do you try to find more information out about Joseph Kony? Wh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0:35:11Z</dcterms:created>
  <dc:creator>eduffy25</dc:creator>
  <dc:description/>
  <dc:language>en-US</dc:language>
  <cp:lastModifiedBy>eduffy25</cp:lastModifiedBy>
  <dcterms:modified xsi:type="dcterms:W3CDTF">2013-10-22T11:42:33Z</dcterms:modified>
  <cp:revision>19</cp:revision>
  <dc:subject/>
  <dc:title>Kony 2012</dc:title>
</cp:coreProperties>
</file>